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E951-116D-418B-B7E1-600238B5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AED3-FAAB-4F01-9983-B78A18A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93F3-8CD0-4D46-A2A2-5C6B8475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0471-8650-46CB-A498-054181A3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09DD-5894-4DF1-BDEF-E5C55446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95A6-5F74-4B30-B0A5-2B608FAE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87B-8152-47EB-9A43-CE0A096B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25F-9B06-49CC-A24F-32F5DAF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2085-5321-4FFB-993B-58B73643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BC87-E1D9-40D2-A085-795B9072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B501-C452-4FD1-94E2-2981084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098C-9782-47D9-89A7-2437A3B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A95A-CEE7-4EFC-AD5B-D791CAA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5149-7AB7-4AB1-8BA1-224977D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667D-7D37-4A34-AD8C-281C6421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A65-18E2-4E99-B763-867E3250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7DCD-B28B-4EAB-AB21-96BE62C3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105D-6DCB-4274-8D5E-8BB0903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E9C1-86E4-419F-B86C-79FB32D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F277-558D-40E2-92B4-E274A9D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F25A-62B4-451D-9B6E-5199F91A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E69F-B300-490D-9B91-CE86859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9252-9D33-4BB9-9916-C6259BF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40F0-C5B4-4FA5-BC93-3C2BB47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EE08-C327-4681-A114-392CF29F5AD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5E5-588E-4C4E-AC94-21D259D5EEB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69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4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аква приятна муз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есни най-тържестве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от Сионската гор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стигат до ушите ни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, слава! - пеем 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горе пеят ангел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Осанна, осан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анна на Спасител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Чуй как ехти детински глас: „Осанна, ето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решни Той е славен Кня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всички мощен Господар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, слава! - пеем 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горе пеят ангел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Осанна, осан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анна на Спасител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962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аз най-приятна музи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целий свят ще проех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тигне и езични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да му вести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, слава! - пеем 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горе пеят ангел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Осанна, осан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анна на Спасител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О, Боже, скоро всичк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чуе дай за славн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ъзгласят деца безч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анна!" заедно със н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, слава! - пеем 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горе пеят ангел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Осанна, осан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анна на Спасител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8:50:54Z</dcterms:modified>
  <cp:revision>209</cp:revision>
  <dc:subject/>
  <dc:title>Slide 1</dc:title>
</cp:coreProperties>
</file>